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3DCF-02A5-4E1A-B586-F4DF0AD537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0F1B-2872-4A15-9058-24C777A530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1DB2-EAC1-4E0C-B749-A847C05F15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D07-A3F3-4255-B8A4-F8E007BA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175-0D71-4260-A874-03BC6A81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384-7DE4-4166-9DAA-B8D65E6B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CBC-DF65-465C-B1AC-270B7EFA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F3BE-B954-4F5D-89B3-D41B02AD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9170-C9F3-4D50-A9FD-329DF637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F01C-FC96-43D4-A447-13BB22E4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5AC3-003D-4F52-BB6B-42149B78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08B8-841C-4E06-AB37-7FE6A18D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8FB6-D361-4E42-8F44-7CC95D56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60AB-5CE8-4318-993E-08DC1A5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93D-8A30-4B45-91D3-DDBF842D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A653-0725-4D79-99AE-B324EDE7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9D75-74DF-4A8C-94EB-DA3FB3A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F36C-3C7B-41B3-821B-77E2ADA1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C22C-03AB-4486-B1DA-20383156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5129-09CD-42DA-AB87-26C327F2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EC9-18E7-4EFF-B36F-B197469A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68C-D852-44C6-96C8-8FB7B864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383-B56D-4935-9D6C-933758CE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FD7-97AC-4F6E-A343-A64AC73B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5B1-B2C7-4E97-ADC8-841CF596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00C-5C2E-4F8B-8042-27DC53C2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5A5-FB9C-4A40-83E2-9008E59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F068-3939-4F05-8C0A-076B6065F76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44DB-73D7-4845-BD87-C39047EB055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Tema 6. Los organismos y el med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Text Box 40"/>
          <p:cNvSpPr/>
          <p:nvPr/>
        </p:nvSpPr>
        <p:spPr>
          <a:xfrm>
            <a:off x="1187280" y="1916280"/>
            <a:ext cx="712980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Son las relaciones que se establecen entre los individuos de diferentes poblaciones (diferentes especies) de un ecosistem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ASIT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UTUAL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5867280" y="3429000"/>
            <a:ext cx="2376360" cy="892080"/>
            <a:chOff x="5867280" y="3429000"/>
            <a:chExt cx="2376360" cy="892080"/>
          </a:xfrm>
        </p:grpSpPr>
        <p:pic>
          <p:nvPicPr>
            <p:cNvPr id="165" name="Picture 13" descr="Daphnia%20with%20eggs"/>
            <p:cNvPicPr/>
            <p:nvPr/>
          </p:nvPicPr>
          <p:blipFill>
            <a:blip r:embed="rId1"/>
            <a:stretch/>
          </p:blipFill>
          <p:spPr>
            <a:xfrm>
              <a:off x="5867280" y="3429000"/>
              <a:ext cx="136836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/>
            <p:cNvSpPr/>
            <p:nvPr/>
          </p:nvSpPr>
          <p:spPr>
            <a:xfrm>
              <a:off x="7235640" y="3571920"/>
              <a:ext cx="1008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ulga de agua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(crustace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1978200" y="3429000"/>
            <a:ext cx="1150920" cy="1067040"/>
            <a:chOff x="1978200" y="3429000"/>
            <a:chExt cx="1150920" cy="1067040"/>
          </a:xfrm>
        </p:grpSpPr>
        <p:pic>
          <p:nvPicPr>
            <p:cNvPr id="168" name="Picture 16" descr="1996693"/>
            <p:cNvPicPr/>
            <p:nvPr/>
          </p:nvPicPr>
          <p:blipFill>
            <a:blip r:embed="rId2"/>
            <a:stretch/>
          </p:blipFill>
          <p:spPr>
            <a:xfrm>
              <a:off x="1978200" y="3429000"/>
              <a:ext cx="115092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7"/>
            <p:cNvSpPr/>
            <p:nvPr/>
          </p:nvSpPr>
          <p:spPr>
            <a:xfrm>
              <a:off x="2156040" y="421956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lamen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0" name="Line 18"/>
          <p:cNvSpPr/>
          <p:nvPr/>
        </p:nvSpPr>
        <p:spPr>
          <a:xfrm>
            <a:off x="3490920" y="393228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562200" y="3355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70692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DEPRED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3562200" y="558972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1546200" y="4724280"/>
            <a:ext cx="1835280" cy="1428840"/>
            <a:chOff x="1546200" y="4724280"/>
            <a:chExt cx="1835280" cy="1428840"/>
          </a:xfrm>
        </p:grpSpPr>
        <p:pic>
          <p:nvPicPr>
            <p:cNvPr id="175" name="Picture 23" descr="1996518"/>
            <p:cNvPicPr/>
            <p:nvPr/>
          </p:nvPicPr>
          <p:blipFill>
            <a:blip r:embed="rId3"/>
            <a:stretch/>
          </p:blipFill>
          <p:spPr>
            <a:xfrm>
              <a:off x="2049480" y="4724280"/>
              <a:ext cx="1084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24"/>
            <p:cNvSpPr/>
            <p:nvPr/>
          </p:nvSpPr>
          <p:spPr>
            <a:xfrm>
              <a:off x="1546200" y="5876640"/>
              <a:ext cx="18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5867280" y="4869000"/>
            <a:ext cx="1333440" cy="1285920"/>
            <a:chOff x="5867280" y="4869000"/>
            <a:chExt cx="1333440" cy="1285920"/>
          </a:xfrm>
        </p:grpSpPr>
        <p:pic>
          <p:nvPicPr>
            <p:cNvPr id="178" name="Picture 26" descr="potamogeton_pectinatus"/>
            <p:cNvPicPr/>
            <p:nvPr/>
          </p:nvPicPr>
          <p:blipFill>
            <a:blip r:embed="rId4"/>
            <a:stretch/>
          </p:blipFill>
          <p:spPr>
            <a:xfrm>
              <a:off x="5867280" y="4869000"/>
              <a:ext cx="13334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27"/>
            <p:cNvSpPr/>
            <p:nvPr/>
          </p:nvSpPr>
          <p:spPr>
            <a:xfrm>
              <a:off x="5938920" y="587844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otamoge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1116000" y="2205000"/>
            <a:ext cx="7488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PREDACIÓ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un ser vivo se alimenta de otro, al que da mue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3419640" y="4149720"/>
            <a:ext cx="2087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3492360" y="35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COMPET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4" name="Group 23"/>
          <p:cNvGrpSpPr/>
          <p:nvPr/>
        </p:nvGrpSpPr>
        <p:grpSpPr>
          <a:xfrm>
            <a:off x="826920" y="3357720"/>
            <a:ext cx="2266920" cy="1834560"/>
            <a:chOff x="826920" y="3357720"/>
            <a:chExt cx="2266920" cy="1834560"/>
          </a:xfrm>
        </p:grpSpPr>
        <p:pic>
          <p:nvPicPr>
            <p:cNvPr id="185" name="Picture 24" descr="1996518"/>
            <p:cNvPicPr/>
            <p:nvPr/>
          </p:nvPicPr>
          <p:blipFill>
            <a:blip r:embed="rId1"/>
            <a:stretch/>
          </p:blipFill>
          <p:spPr>
            <a:xfrm>
              <a:off x="1448640" y="3357720"/>
              <a:ext cx="13392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25"/>
            <p:cNvSpPr/>
            <p:nvPr/>
          </p:nvSpPr>
          <p:spPr>
            <a:xfrm>
              <a:off x="826920" y="4915800"/>
              <a:ext cx="22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5940360" y="3357720"/>
            <a:ext cx="1800000" cy="1600200"/>
            <a:chOff x="5940360" y="3357720"/>
            <a:chExt cx="1800000" cy="1600200"/>
          </a:xfrm>
        </p:grpSpPr>
        <p:pic>
          <p:nvPicPr>
            <p:cNvPr id="188" name="Picture 27" descr="1996534"/>
            <p:cNvPicPr/>
            <p:nvPr/>
          </p:nvPicPr>
          <p:blipFill>
            <a:blip r:embed="rId2"/>
            <a:stretch/>
          </p:blipFill>
          <p:spPr>
            <a:xfrm>
              <a:off x="5940360" y="3357720"/>
              <a:ext cx="1478160" cy="12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8"/>
            <p:cNvSpPr/>
            <p:nvPr/>
          </p:nvSpPr>
          <p:spPr>
            <a:xfrm>
              <a:off x="5985000" y="4681440"/>
              <a:ext cx="175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Text Box 39"/>
          <p:cNvSpPr/>
          <p:nvPr/>
        </p:nvSpPr>
        <p:spPr>
          <a:xfrm>
            <a:off x="1403280" y="2060640"/>
            <a:ext cx="705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MPETENCI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dos especies utilizan un mismo recurso, como el espacio para criar o un aliment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1"/>
          <p:cNvSpPr/>
          <p:nvPr/>
        </p:nvSpPr>
        <p:spPr>
          <a:xfrm>
            <a:off x="1258920" y="56610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s dos especies se alimentan, entre otras cosas, de la planta acuática 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Potamogeton s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3" name="Group 12"/>
          <p:cNvGrpSpPr/>
          <p:nvPr/>
        </p:nvGrpSpPr>
        <p:grpSpPr>
          <a:xfrm>
            <a:off x="1620720" y="3573360"/>
            <a:ext cx="1871280" cy="1338840"/>
            <a:chOff x="1620720" y="3573360"/>
            <a:chExt cx="1871280" cy="1338840"/>
          </a:xfrm>
        </p:grpSpPr>
        <p:pic>
          <p:nvPicPr>
            <p:cNvPr id="194" name="Picture 13" descr="E"/>
            <p:cNvPicPr/>
            <p:nvPr/>
          </p:nvPicPr>
          <p:blipFill>
            <a:blip r:embed="rId1"/>
            <a:stretch/>
          </p:blipFill>
          <p:spPr>
            <a:xfrm>
              <a:off x="1726200" y="3573360"/>
              <a:ext cx="1247040" cy="11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4"/>
            <p:cNvSpPr/>
            <p:nvPr/>
          </p:nvSpPr>
          <p:spPr>
            <a:xfrm>
              <a:off x="1620720" y="4635720"/>
              <a:ext cx="187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Entamoeba (protozo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Line 15"/>
          <p:cNvSpPr/>
          <p:nvPr/>
        </p:nvSpPr>
        <p:spPr>
          <a:xfrm>
            <a:off x="3565440" y="450864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6370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PARASIT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Group 17"/>
          <p:cNvGrpSpPr/>
          <p:nvPr/>
        </p:nvGrpSpPr>
        <p:grpSpPr>
          <a:xfrm>
            <a:off x="5940360" y="3573360"/>
            <a:ext cx="1657080" cy="1736280"/>
            <a:chOff x="5940360" y="3573360"/>
            <a:chExt cx="1657080" cy="1736280"/>
          </a:xfrm>
        </p:grpSpPr>
        <p:pic>
          <p:nvPicPr>
            <p:cNvPr id="199" name="Picture 18" descr="ranacomun"/>
            <p:cNvPicPr/>
            <p:nvPr/>
          </p:nvPicPr>
          <p:blipFill>
            <a:blip r:embed="rId2"/>
            <a:stretch/>
          </p:blipFill>
          <p:spPr>
            <a:xfrm>
              <a:off x="5940360" y="3573360"/>
              <a:ext cx="1657080" cy="14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9"/>
            <p:cNvSpPr/>
            <p:nvPr/>
          </p:nvSpPr>
          <p:spPr>
            <a:xfrm>
              <a:off x="6024960" y="5033160"/>
              <a:ext cx="144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Rana comú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1" name="Text Box 20"/>
          <p:cNvSpPr/>
          <p:nvPr/>
        </p:nvSpPr>
        <p:spPr>
          <a:xfrm>
            <a:off x="1258920" y="2205000"/>
            <a:ext cx="73454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SITISM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un ser vivo se alimenta de otro, causandole un perjuicio pero no la muerte. Los hay internos y extern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403280" y="5805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protozoo vive en el intestino de la Rana, alimentandose a su costa y debilitando a es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er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3564000" y="4365720"/>
            <a:ext cx="20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6370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00000"/>
                </a:solidFill>
                <a:latin typeface="Tahoma"/>
              </a:rPr>
              <a:t>MUTUALIS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258920" y="2205000"/>
            <a:ext cx="74898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UTUALISM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dos especies se asocian para beneficiarse mutuam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Group 12"/>
          <p:cNvGrpSpPr/>
          <p:nvPr/>
        </p:nvGrpSpPr>
        <p:grpSpPr>
          <a:xfrm>
            <a:off x="1403280" y="3789360"/>
            <a:ext cx="2231640" cy="1533240"/>
            <a:chOff x="1403280" y="3789360"/>
            <a:chExt cx="2231640" cy="1533240"/>
          </a:xfrm>
        </p:grpSpPr>
        <p:pic>
          <p:nvPicPr>
            <p:cNvPr id="208" name="Picture 13" descr="1996607"/>
            <p:cNvPicPr/>
            <p:nvPr/>
          </p:nvPicPr>
          <p:blipFill>
            <a:blip r:embed="rId1"/>
            <a:stretch/>
          </p:blipFill>
          <p:spPr>
            <a:xfrm>
              <a:off x="1859040" y="3789360"/>
              <a:ext cx="1365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4"/>
            <p:cNvSpPr/>
            <p:nvPr/>
          </p:nvSpPr>
          <p:spPr>
            <a:xfrm>
              <a:off x="1403280" y="5046120"/>
              <a:ext cx="22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Zampullín cuellinegr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5940360" y="3716280"/>
            <a:ext cx="1944360" cy="1630800"/>
            <a:chOff x="5940360" y="3716280"/>
            <a:chExt cx="1944360" cy="1630800"/>
          </a:xfrm>
        </p:grpSpPr>
        <p:pic>
          <p:nvPicPr>
            <p:cNvPr id="211" name="Picture 16" descr="1996534"/>
            <p:cNvPicPr/>
            <p:nvPr/>
          </p:nvPicPr>
          <p:blipFill>
            <a:blip r:embed="rId2"/>
            <a:stretch/>
          </p:blipFill>
          <p:spPr>
            <a:xfrm>
              <a:off x="5940360" y="3716280"/>
              <a:ext cx="1596600" cy="130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7"/>
            <p:cNvSpPr/>
            <p:nvPr/>
          </p:nvSpPr>
          <p:spPr>
            <a:xfrm>
              <a:off x="5988600" y="5070600"/>
              <a:ext cx="189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3" name="Text Box 18"/>
          <p:cNvSpPr/>
          <p:nvPr/>
        </p:nvSpPr>
        <p:spPr>
          <a:xfrm>
            <a:off x="1187280" y="5734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orman una colonia reproductora, y las dos en época de reproducción se asocian para proteger a sus cr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1396-7B0C-42B2-83EB-F46D7FA96E44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FDE2-8BE8-4271-ADC8-F31D715F973F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FACTORES BIOTICOS: factores dependientes de la densidad de población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oblación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seres vivos que pertenecen a la misma especie y desarrollan una serie de relaciones intraespecíficas que originan una dinámica de pobl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unidad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Todas las poblaciones de diferentes especies que habitan un área determinado y que mantienen relaciones interespecíf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icho ecológico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das las condiciones físico-químicas y biológicas que necesita una especie para vivir en un hábitat determin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D9AB-005F-4E41-9B4D-862156E8BF60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42D5-C451-47A6-AE4A-FB6E5F7F5038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SEGÚN EL NICHO ECOLÓGICO 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pecialistas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iven en un nicho reducido. So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trategas de la K.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Especies que ocupan biotopos poco cambiantes, que mantienen el máximo nº de individuos que admite la población y que tienen pocos descendientes. Oso pa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Generalistas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Especies de nicho ecológico amplio. So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trategas de la 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presentan pocas exigencias ambientales, se adaptan rápidamente y su abundancia es menor. Cucarach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odos estos organismos interaccionan entre sí y con los factores del        medio tendiendo al equilibrio. Cuando las condiciones cambian se inician las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CECIONES ECOLÓG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osos.anipedia.net/images/foto-oso-panda-bambu.jpg"/>
          <p:cNvPicPr/>
          <p:nvPr/>
        </p:nvPicPr>
        <p:blipFill>
          <a:blip r:embed="rId1"/>
          <a:stretch/>
        </p:blipFill>
        <p:spPr>
          <a:xfrm>
            <a:off x="395280" y="692280"/>
            <a:ext cx="4340160" cy="2903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1.bp.blogspot.com/-GOHRl4AKIqo/TyMMFy8ZD5I/AAAAAAAAHl4/2X2p9aLyc0Y/s1600/cucaracha.jpg"/>
          <p:cNvPicPr/>
          <p:nvPr/>
        </p:nvPicPr>
        <p:blipFill>
          <a:blip r:embed="rId2"/>
          <a:stretch/>
        </p:blipFill>
        <p:spPr>
          <a:xfrm>
            <a:off x="4381560" y="3357720"/>
            <a:ext cx="4762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¿Qué amenaza a las especies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trucción y fragmentación de hábita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roducción de especies exó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breexplotación de e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cambio climá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ahoma"/>
              </a:rPr>
              <a:t>LA ECOLOG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 la ciencia que estudia los ecosistemas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ientíficos encargados del estudio se llaman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ólog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greenpeace_070507_1-400"/>
          <p:cNvPicPr/>
          <p:nvPr/>
        </p:nvPicPr>
        <p:blipFill>
          <a:blip r:embed="rId1"/>
          <a:stretch/>
        </p:blipFill>
        <p:spPr>
          <a:xfrm>
            <a:off x="684360" y="3664080"/>
            <a:ext cx="4319280" cy="2894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148360" y="4292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hay que confundirlos con los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ecologista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 Que son personas interesadas en la conservación de la naturalez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ahoma"/>
              </a:rPr>
              <a:t>LOS ECOSISTEM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de seres vivos que se relacionan entre ellos y con el medio en el que viv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ecosistema_lacustre"/>
          <p:cNvPicPr/>
          <p:nvPr/>
        </p:nvPicPr>
        <p:blipFill>
          <a:blip r:embed="rId1"/>
          <a:stretch/>
        </p:blipFill>
        <p:spPr>
          <a:xfrm>
            <a:off x="468360" y="2813040"/>
            <a:ext cx="3598920" cy="3524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4427640" y="3068640"/>
            <a:ext cx="4465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otras palabras, el ecosistema es una unidad formada por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factores 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o integrantes vivos como los vegetales y los animales) y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factor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100000"/>
                </a:solidFill>
                <a:latin typeface="Tahoma"/>
              </a:rPr>
              <a:t>a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(componentes que carecen de vida, como por ejemplo la luz, temperatura, salinidad, y el agua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LOS ECOSISTEMAS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FACTORES BIOTICO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826920" y="1989000"/>
            <a:ext cx="777744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Entre los seres vivos de un ecosistema pueden establecerse diferentes niveles de organiz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POBLACIÓN.-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res de la misma especie que forman parte de un ecosistema, y que se reproducen entre ellos. Por ejemplo: población de Malvasía cabeciblanca que vive en el ecosistema de la laguna de la veg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COMUNIDAD (Biocenosis).-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njunto de poblaciones de seres vivos que habitan en un ecosistema. Por ejemplo: la comunidad que forman las poblaciones de Malvasía cabeciblanca, Zampullín cuellinegro, Daphnia (pulga de agua), Culebra de agua, Libélulas, Algas, Carriz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LOS ECOSISTEMAS</a:t>
            </a:r>
            <a:br>
              <a:rPr sz="4000"/>
            </a:br>
            <a:r>
              <a:rPr b="0" lang="es-ES" sz="2400" spc="-1" strike="noStrike">
                <a:solidFill>
                  <a:srgbClr val="ffcc66"/>
                </a:solidFill>
                <a:latin typeface="Tahoma"/>
              </a:rPr>
              <a:t>FACTORES ABIOTICO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55640" y="155736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medio ambiente de un organismo está constituido por todos los factores o condiciones que existen en el lugar en el que habita y que influyen sobre él en algún momento de su vida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factores abiótic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son las características fisico-químicas que posee un medio. No dependen directamente de los seres vivos, aunque su actividad puede modificarl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58920" y="3716280"/>
            <a:ext cx="3457440" cy="303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66"/>
                </a:solidFill>
                <a:uFillTx/>
                <a:latin typeface="Tahoma"/>
              </a:rPr>
              <a:t>MEDIO ACUA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TEMPERATURA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disminuye con la profundid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LUZ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para los organismos fotosintétic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GASES DISUELTOS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la cantidad de oxígeno en el agua para la respiración y el dioxido de carbono para la fotosíntesis son muy importan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SALINIDAD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la cantidad de sales, condicionará el tipo de seres vivos que puedan vivir all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148360" y="3716280"/>
            <a:ext cx="3671640" cy="2670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cc66"/>
                </a:solidFill>
                <a:uFillTx/>
                <a:latin typeface="Tahoma"/>
              </a:rPr>
              <a:t>MEDIO TERREST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LUZ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en  la fotosínte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HUMEDAD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proporción de vapor de agua en el a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TEMPERATURA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importante en las reacciones químicas, asi como en la disponibilidad de aliment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00000"/>
                </a:solidFill>
                <a:latin typeface="Tahoma"/>
              </a:rPr>
              <a:t>SUELO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: su composición química así como su textura condicionará a los seres vivos que alli puedan vi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D0CA-91A7-42A0-819A-FB2D86303596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C1F0-9141-435F-9C0F-D39B3E5777FC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seres vivos que habitan en un medio están continuamente sometidos a una serie de factores ambientales o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ORES ABIOT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unos límites máximos y mínimos de los factores ambientales que toleran los organismos . Son lo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LIMITES DE TOLERANCIA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factor ambiental que sobrepasa la amplitud de  estos límites es el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OR LIMITANT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0AFB-8CFA-4632-84D1-B7FD685A9CD6}" type="datetime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BC2-8522-4A61-AE70-B15DC75A8D48}" type="slidenum"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2d050"/>
                </a:solidFill>
                <a:latin typeface="Tahoma"/>
              </a:rPr>
              <a:t>SEGÚN EL MARGEN DE TOLERANCIA QUE LAS ESPECIES </a:t>
            </a:r>
            <a:br>
              <a:rPr sz="2400"/>
            </a:br>
            <a:r>
              <a:rPr b="0" lang="es-ES" sz="2400" spc="-1" strike="noStrike">
                <a:solidFill>
                  <a:srgbClr val="92d050"/>
                </a:solidFill>
                <a:latin typeface="Tahoma"/>
              </a:rPr>
              <a:t>PRESENTEN RESPECTO A LOS CAMBIOS DE DETERMINADOS FACTORES ABIÓTICOS SE CLASIFICAN EN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ESPECIES ESTENO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 un estrecho margen  de tolerancia para un determinado factor. Por ejemplo , hay organismo higrófilos , que necesitan un alto grado de humedad para vivir y xerófilos adaptados a vivir sin agua ; en un caso la escasez y en el otro , la abundancia del agua , son nocivos para estos organismos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SPECIES EURI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con un amplio margen de tolerancia. La mayoría de las especies de nuestras regiones tienen moderadas necesidades de agua , soportando alternancia de estaciones húmedas y secas , o con altas y bajas temperaturas. Todas las especies que habitan en los estuarios y marismas son especies eurihalinas , pues están adaptadas a soportar grandes y rápidos cambios de salinidad.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cc66"/>
                </a:solidFill>
                <a:latin typeface="Tahoma"/>
              </a:rPr>
              <a:t>Poblaciones de la veg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5" descr="1996867"/>
          <p:cNvPicPr/>
          <p:nvPr/>
        </p:nvPicPr>
        <p:blipFill>
          <a:blip r:embed="rId1"/>
          <a:stretch/>
        </p:blipFill>
        <p:spPr>
          <a:xfrm>
            <a:off x="2050920" y="1773360"/>
            <a:ext cx="5112000" cy="38322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44"/>
          <p:cNvGrpSpPr/>
          <p:nvPr/>
        </p:nvGrpSpPr>
        <p:grpSpPr>
          <a:xfrm>
            <a:off x="179280" y="260280"/>
            <a:ext cx="1656000" cy="1357560"/>
            <a:chOff x="179280" y="260280"/>
            <a:chExt cx="1656000" cy="1357560"/>
          </a:xfrm>
        </p:grpSpPr>
        <p:pic>
          <p:nvPicPr>
            <p:cNvPr id="121" name="Picture 17" descr="1995396"/>
            <p:cNvPicPr/>
            <p:nvPr/>
          </p:nvPicPr>
          <p:blipFill>
            <a:blip r:embed="rId2"/>
            <a:stretch/>
          </p:blipFill>
          <p:spPr>
            <a:xfrm>
              <a:off x="179280" y="260280"/>
              <a:ext cx="14544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2"/>
            <p:cNvSpPr/>
            <p:nvPr/>
          </p:nvSpPr>
          <p:spPr>
            <a:xfrm>
              <a:off x="179280" y="1341360"/>
              <a:ext cx="16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Culebra de agu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Group 45"/>
          <p:cNvGrpSpPr/>
          <p:nvPr/>
        </p:nvGrpSpPr>
        <p:grpSpPr>
          <a:xfrm>
            <a:off x="179280" y="1628640"/>
            <a:ext cx="1403280" cy="1284480"/>
            <a:chOff x="179280" y="1628640"/>
            <a:chExt cx="1403280" cy="1284480"/>
          </a:xfrm>
        </p:grpSpPr>
        <p:pic>
          <p:nvPicPr>
            <p:cNvPr id="124" name="Picture 19" descr="ranacomun"/>
            <p:cNvPicPr/>
            <p:nvPr/>
          </p:nvPicPr>
          <p:blipFill>
            <a:blip r:embed="rId3"/>
            <a:stretch/>
          </p:blipFill>
          <p:spPr>
            <a:xfrm>
              <a:off x="179280" y="1628640"/>
              <a:ext cx="140328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3"/>
            <p:cNvSpPr/>
            <p:nvPr/>
          </p:nvSpPr>
          <p:spPr>
            <a:xfrm>
              <a:off x="250920" y="263664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Rana comú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Group 54"/>
          <p:cNvGrpSpPr/>
          <p:nvPr/>
        </p:nvGrpSpPr>
        <p:grpSpPr>
          <a:xfrm>
            <a:off x="7380360" y="1700280"/>
            <a:ext cx="1763640" cy="1141560"/>
            <a:chOff x="7380360" y="1700280"/>
            <a:chExt cx="1763640" cy="1141560"/>
          </a:xfrm>
        </p:grpSpPr>
        <p:pic>
          <p:nvPicPr>
            <p:cNvPr id="127" name="Picture 11" descr="1996607"/>
            <p:cNvPicPr/>
            <p:nvPr/>
          </p:nvPicPr>
          <p:blipFill>
            <a:blip r:embed="rId4"/>
            <a:stretch/>
          </p:blipFill>
          <p:spPr>
            <a:xfrm>
              <a:off x="7740720" y="1700280"/>
              <a:ext cx="107928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5"/>
            <p:cNvSpPr/>
            <p:nvPr/>
          </p:nvSpPr>
          <p:spPr>
            <a:xfrm>
              <a:off x="7380360" y="2565360"/>
              <a:ext cx="17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Zampullín cuellinegr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Group 53"/>
          <p:cNvGrpSpPr/>
          <p:nvPr/>
        </p:nvGrpSpPr>
        <p:grpSpPr>
          <a:xfrm>
            <a:off x="7308720" y="2924280"/>
            <a:ext cx="1835280" cy="1428840"/>
            <a:chOff x="7308720" y="2924280"/>
            <a:chExt cx="1835280" cy="1428840"/>
          </a:xfrm>
        </p:grpSpPr>
        <p:pic>
          <p:nvPicPr>
            <p:cNvPr id="130" name="Picture 7" descr="1996518"/>
            <p:cNvPicPr/>
            <p:nvPr/>
          </p:nvPicPr>
          <p:blipFill>
            <a:blip r:embed="rId5"/>
            <a:stretch/>
          </p:blipFill>
          <p:spPr>
            <a:xfrm>
              <a:off x="7812000" y="2924280"/>
              <a:ext cx="1084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6"/>
            <p:cNvSpPr/>
            <p:nvPr/>
          </p:nvSpPr>
          <p:spPr>
            <a:xfrm>
              <a:off x="7308720" y="4076640"/>
              <a:ext cx="18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alvasía cabeciblanc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2" name="Group 52"/>
          <p:cNvGrpSpPr/>
          <p:nvPr/>
        </p:nvGrpSpPr>
        <p:grpSpPr>
          <a:xfrm>
            <a:off x="7740720" y="4437000"/>
            <a:ext cx="1403280" cy="1211400"/>
            <a:chOff x="7740720" y="4437000"/>
            <a:chExt cx="1403280" cy="1211400"/>
          </a:xfrm>
        </p:grpSpPr>
        <p:pic>
          <p:nvPicPr>
            <p:cNvPr id="133" name="Picture 9" descr="1996534"/>
            <p:cNvPicPr/>
            <p:nvPr/>
          </p:nvPicPr>
          <p:blipFill>
            <a:blip r:embed="rId6"/>
            <a:stretch/>
          </p:blipFill>
          <p:spPr>
            <a:xfrm>
              <a:off x="7740720" y="4437000"/>
              <a:ext cx="11523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27"/>
            <p:cNvSpPr/>
            <p:nvPr/>
          </p:nvSpPr>
          <p:spPr>
            <a:xfrm>
              <a:off x="7775640" y="5371920"/>
              <a:ext cx="136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ato colorad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Group 51"/>
          <p:cNvGrpSpPr/>
          <p:nvPr/>
        </p:nvGrpSpPr>
        <p:grpSpPr>
          <a:xfrm>
            <a:off x="7812000" y="5792760"/>
            <a:ext cx="1150920" cy="1067040"/>
            <a:chOff x="7812000" y="5792760"/>
            <a:chExt cx="1150920" cy="1067040"/>
          </a:xfrm>
        </p:grpSpPr>
        <p:pic>
          <p:nvPicPr>
            <p:cNvPr id="136" name="Picture 13" descr="1996693"/>
            <p:cNvPicPr/>
            <p:nvPr/>
          </p:nvPicPr>
          <p:blipFill>
            <a:blip r:embed="rId7"/>
            <a:stretch/>
          </p:blipFill>
          <p:spPr>
            <a:xfrm>
              <a:off x="7812000" y="5792760"/>
              <a:ext cx="115092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28"/>
            <p:cNvSpPr/>
            <p:nvPr/>
          </p:nvSpPr>
          <p:spPr>
            <a:xfrm>
              <a:off x="7989840" y="658332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lamen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47"/>
          <p:cNvGrpSpPr/>
          <p:nvPr/>
        </p:nvGrpSpPr>
        <p:grpSpPr>
          <a:xfrm>
            <a:off x="179280" y="4292640"/>
            <a:ext cx="1527120" cy="1500480"/>
            <a:chOff x="179280" y="4292640"/>
            <a:chExt cx="1527120" cy="1500480"/>
          </a:xfrm>
        </p:grpSpPr>
        <p:pic>
          <p:nvPicPr>
            <p:cNvPr id="139" name="Picture 21" descr="1999027"/>
            <p:cNvPicPr/>
            <p:nvPr/>
          </p:nvPicPr>
          <p:blipFill>
            <a:blip r:embed="rId8"/>
            <a:stretch/>
          </p:blipFill>
          <p:spPr>
            <a:xfrm>
              <a:off x="179280" y="4292640"/>
              <a:ext cx="1527120" cy="11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9"/>
            <p:cNvSpPr/>
            <p:nvPr/>
          </p:nvSpPr>
          <p:spPr>
            <a:xfrm>
              <a:off x="179280" y="5516640"/>
              <a:ext cx="79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Carriz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Group 48"/>
          <p:cNvGrpSpPr/>
          <p:nvPr/>
        </p:nvGrpSpPr>
        <p:grpSpPr>
          <a:xfrm>
            <a:off x="179280" y="5805360"/>
            <a:ext cx="2376360" cy="892080"/>
            <a:chOff x="179280" y="5805360"/>
            <a:chExt cx="2376360" cy="892080"/>
          </a:xfrm>
        </p:grpSpPr>
        <p:pic>
          <p:nvPicPr>
            <p:cNvPr id="142" name="Picture 36" descr="Daphnia%20with%20eggs"/>
            <p:cNvPicPr/>
            <p:nvPr/>
          </p:nvPicPr>
          <p:blipFill>
            <a:blip r:embed="rId9"/>
            <a:stretch/>
          </p:blipFill>
          <p:spPr>
            <a:xfrm>
              <a:off x="179280" y="5805360"/>
              <a:ext cx="136836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37"/>
            <p:cNvSpPr/>
            <p:nvPr/>
          </p:nvSpPr>
          <p:spPr>
            <a:xfrm>
              <a:off x="1547640" y="5948280"/>
              <a:ext cx="1008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ulga de agua</a:t>
              </a:r>
              <a:br>
                <a:rPr sz="1200"/>
              </a:b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(crustace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50"/>
          <p:cNvGrpSpPr/>
          <p:nvPr/>
        </p:nvGrpSpPr>
        <p:grpSpPr>
          <a:xfrm>
            <a:off x="5867280" y="5950080"/>
            <a:ext cx="1944360" cy="736560"/>
            <a:chOff x="5867280" y="5950080"/>
            <a:chExt cx="1944360" cy="736560"/>
          </a:xfrm>
        </p:grpSpPr>
        <p:pic>
          <p:nvPicPr>
            <p:cNvPr id="145" name="Picture 39" descr="mosquito_65147_7"/>
            <p:cNvPicPr/>
            <p:nvPr/>
          </p:nvPicPr>
          <p:blipFill>
            <a:blip r:embed="rId10"/>
            <a:stretch/>
          </p:blipFill>
          <p:spPr>
            <a:xfrm>
              <a:off x="5867280" y="5950080"/>
              <a:ext cx="11718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0"/>
            <p:cNvSpPr/>
            <p:nvPr/>
          </p:nvSpPr>
          <p:spPr>
            <a:xfrm>
              <a:off x="7007760" y="6216120"/>
              <a:ext cx="80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osquit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" name="Group 59"/>
          <p:cNvGrpSpPr/>
          <p:nvPr/>
        </p:nvGrpSpPr>
        <p:grpSpPr>
          <a:xfrm>
            <a:off x="4284720" y="5824440"/>
            <a:ext cx="1295280" cy="1035360"/>
            <a:chOff x="4284720" y="5824440"/>
            <a:chExt cx="1295280" cy="1035360"/>
          </a:xfrm>
        </p:grpSpPr>
        <p:pic>
          <p:nvPicPr>
            <p:cNvPr id="148" name="Picture 57" descr="E"/>
            <p:cNvPicPr/>
            <p:nvPr/>
          </p:nvPicPr>
          <p:blipFill>
            <a:blip r:embed="rId11"/>
            <a:stretch/>
          </p:blipFill>
          <p:spPr>
            <a:xfrm>
              <a:off x="4357800" y="5824440"/>
              <a:ext cx="86328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8"/>
            <p:cNvSpPr/>
            <p:nvPr/>
          </p:nvSpPr>
          <p:spPr>
            <a:xfrm>
              <a:off x="4284720" y="64008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Entamoeba (protozoo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0" name="Group 63"/>
          <p:cNvGrpSpPr/>
          <p:nvPr/>
        </p:nvGrpSpPr>
        <p:grpSpPr>
          <a:xfrm>
            <a:off x="179280" y="2924280"/>
            <a:ext cx="1333440" cy="1285920"/>
            <a:chOff x="179280" y="2924280"/>
            <a:chExt cx="1333440" cy="1285920"/>
          </a:xfrm>
        </p:grpSpPr>
        <p:pic>
          <p:nvPicPr>
            <p:cNvPr id="151" name="Picture 61" descr="potamogeton_pectinatus"/>
            <p:cNvPicPr/>
            <p:nvPr/>
          </p:nvPicPr>
          <p:blipFill>
            <a:blip r:embed="rId12"/>
            <a:stretch/>
          </p:blipFill>
          <p:spPr>
            <a:xfrm>
              <a:off x="179280" y="2924280"/>
              <a:ext cx="133344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62"/>
            <p:cNvSpPr/>
            <p:nvPr/>
          </p:nvSpPr>
          <p:spPr>
            <a:xfrm>
              <a:off x="250920" y="393372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Potamoge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3" name="Group 67"/>
          <p:cNvGrpSpPr/>
          <p:nvPr/>
        </p:nvGrpSpPr>
        <p:grpSpPr>
          <a:xfrm>
            <a:off x="2627280" y="5734080"/>
            <a:ext cx="1440000" cy="1125720"/>
            <a:chOff x="2627280" y="5734080"/>
            <a:chExt cx="1440000" cy="1125720"/>
          </a:xfrm>
        </p:grpSpPr>
        <p:pic>
          <p:nvPicPr>
            <p:cNvPr id="154" name="Picture 65" descr="fitoplankto"/>
            <p:cNvPicPr/>
            <p:nvPr/>
          </p:nvPicPr>
          <p:blipFill>
            <a:blip r:embed="rId13"/>
            <a:stretch/>
          </p:blipFill>
          <p:spPr>
            <a:xfrm>
              <a:off x="2627280" y="5734080"/>
              <a:ext cx="144000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66"/>
            <p:cNvSpPr/>
            <p:nvPr/>
          </p:nvSpPr>
          <p:spPr>
            <a:xfrm>
              <a:off x="2843280" y="658332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fitoplanct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73"/>
          <p:cNvGrpSpPr/>
          <p:nvPr/>
        </p:nvGrpSpPr>
        <p:grpSpPr>
          <a:xfrm>
            <a:off x="7524720" y="189000"/>
            <a:ext cx="1368360" cy="1284480"/>
            <a:chOff x="7524720" y="189000"/>
            <a:chExt cx="1368360" cy="1284480"/>
          </a:xfrm>
        </p:grpSpPr>
        <p:pic>
          <p:nvPicPr>
            <p:cNvPr id="157" name="Picture 71" descr="top20"/>
            <p:cNvPicPr/>
            <p:nvPr/>
          </p:nvPicPr>
          <p:blipFill>
            <a:blip r:embed="rId14"/>
            <a:stretch/>
          </p:blipFill>
          <p:spPr>
            <a:xfrm>
              <a:off x="7524720" y="189000"/>
              <a:ext cx="134460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2"/>
            <p:cNvSpPr/>
            <p:nvPr/>
          </p:nvSpPr>
          <p:spPr>
            <a:xfrm>
              <a:off x="7596360" y="119700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ahoma"/>
                </a:rPr>
                <a:t>Milano r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FACTORES BIOTICOS</a:t>
            </a: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 u="sng">
                <a:solidFill>
                  <a:srgbClr val="ffcc66"/>
                </a:solidFill>
                <a:uFillTx/>
                <a:latin typeface="Tahoma"/>
              </a:rPr>
              <a:t>Relaciones intraespecífic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187280" y="1916280"/>
            <a:ext cx="7129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00000"/>
                </a:solidFill>
                <a:latin typeface="Tahoma"/>
              </a:rPr>
              <a:t>Son las relaciones que se establecen entre los individuos de la misma población (misma especie) de un ecosistem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MPETENCI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- los animales pueden competir por los mismos recursos, el alimento, el espaci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OPERACIÓ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-proporciona beneficios a los individuos, en el cuidado de las crias, la defensa contra los depredadores, o la obtención de aliment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5:01:16Z</dcterms:created>
  <dc:creator>Althia</dc:creator>
  <dc:description/>
  <dc:language>en-US</dc:language>
  <cp:lastModifiedBy>inma</cp:lastModifiedBy>
  <dcterms:modified xsi:type="dcterms:W3CDTF">2012-04-22T10:21:47Z</dcterms:modified>
  <cp:revision>53</cp:revision>
  <dc:subject/>
  <dc:title>LOS  ECOSISTEMAS</dc:title>
</cp:coreProperties>
</file>